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D7E-A96C-414E-8457-65157158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99FA-F145-43CD-8764-3BBCFD9C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D1C-98FD-4057-A0E9-F9804988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00D-68C6-4C65-BD65-7D585973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C6A9-23FC-4247-AC75-BB5B0627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3CFF-0815-44DB-8134-558981CB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76E6-C930-474D-A5A4-50A47F64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C1F4-A5CE-4C6D-B293-76F622B4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9E9B-CD83-4E5A-BC97-F8B96659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7487-8269-4929-B117-4CC1BE52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3E58-1383-4183-8EE5-C23201B5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27F-7BD7-4B05-AB51-26341C5C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1500-10C7-468A-AACB-7064409A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6268-247F-4708-ACB5-24BB6173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C234-5222-47DE-99C3-DA7B49E5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1246-939C-4D80-B605-35B13E5C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015A-FACD-43E6-9D77-8B0006AA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F67-2B2E-4FAD-9959-44A68502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5CA-1CD4-4303-BC9E-378F51FE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FAF-EF57-47A5-B034-4B29F4A9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F46-AD48-4891-AFD3-C0AC0323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EBE-0BA9-4C4B-8A43-7A42A1DE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97D-B441-4581-BC87-CF1A4CCB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610-534B-4DD7-A4BB-FC366BF5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4DB4-F815-4342-8F78-83F938CA0AD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D28E-12F4-49FD-8827-FD561B96606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0.jpeg"/><Relationship Id="rId16" Type="http://schemas.openxmlformats.org/officeDocument/2006/relationships/image" Target="../media/image11.jpe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gency FB"/>
              </a:rPr>
              <a:t>Sasha Wiliam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ABOUT ME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t a stain on 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505320" y="4343400"/>
            <a:ext cx="2438280" cy="2278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 rot="1372800">
            <a:off x="5832360" y="475920"/>
            <a:ext cx="1847880" cy="1380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 rot="19566000">
            <a:off x="546120" y="597960"/>
            <a:ext cx="1924200" cy="1436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075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rush Script Std"/>
              </a:rPr>
              <a:t>The end of m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This slide was to show who I am inside in out you have learned some basic things about me…and the dreams I very much wish to achieve in the futu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The e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dobe Garamond Pro Bold"/>
              </a:rPr>
              <a:t>I am good at.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kton Pro Ext"/>
              </a:rPr>
              <a:t>Danc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kton Pro Ext"/>
              </a:rPr>
              <a:t>Runing track &amp; cross count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kton Pro Ext"/>
              </a:rPr>
              <a:t>Having fu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 rot="21036600">
            <a:off x="533520" y="3657600"/>
            <a:ext cx="1782720" cy="2666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048120" y="3809880"/>
            <a:ext cx="2895480" cy="217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Haettenschweiler"/>
              </a:rPr>
              <a:t>My favorite websites.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yspace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inypic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hotobucket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everlife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Birch Std"/>
              </a:rPr>
              <a:t>Favorite foods.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awfis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sh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ried chick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ried shrim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tfis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ib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ulfoo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izz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cDonal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ger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endy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c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ian foo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inese foo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5"/>
          <a:stretch/>
        </p:blipFill>
        <p:spPr>
          <a:xfrm rot="1336800">
            <a:off x="5181120" y="1904760"/>
            <a:ext cx="2362320" cy="1687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6"/>
          <a:stretch/>
        </p:blipFill>
        <p:spPr>
          <a:xfrm rot="20793000">
            <a:off x="3335040" y="3633480"/>
            <a:ext cx="2225520" cy="1608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7"/>
          <a:stretch/>
        </p:blipFill>
        <p:spPr>
          <a:xfrm rot="1312800">
            <a:off x="5943240" y="48006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no Pro Smbd Caption"/>
              </a:rPr>
              <a:t>My favorite teacher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Mrs.we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Coach B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Mrs.LaBo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gency FB"/>
              </a:rPr>
              <a:t>If I could I would.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n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u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 a plastic surg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Brush Script Std"/>
              </a:rPr>
              <a:t>In 10 years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I would like to be in collag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Are have a job as a surg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gency FB"/>
              </a:rPr>
              <a:t>My favorite athlete and sineger is.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Marion Jones because she has the same dream I have now and its to run track and win the gold for me and help me relize there is never an excuse for not wining your only a loser if you choose not to finish the ra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Neyo because of his talented voice and way of thing in constructing music he would not have got this far without the mentality of never giving up a dream and giving that extra degree 212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19:41Z</dcterms:created>
  <dc:creator>769579</dc:creator>
  <dc:description/>
  <dc:language>en-US</dc:language>
  <cp:lastModifiedBy>769579</cp:lastModifiedBy>
  <dcterms:modified xsi:type="dcterms:W3CDTF">2008-10-28T15:59:48Z</dcterms:modified>
  <cp:revision>5</cp:revision>
  <dc:subject/>
  <dc:title>Sasha Wiliams</dc:title>
</cp:coreProperties>
</file>